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756-9FD0-468B-8079-463A5E23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18F-7F94-4224-98CA-2027B457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011-CAE4-407C-AEE0-105F695C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0D3-DE9B-45E2-A6C3-20609B00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6D2-7FC8-400B-AD24-BBE2B3B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653-4380-403E-9E60-52F1233B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5FF-DC5B-4B80-B09D-51701BDD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6D7-D1F1-4D2C-9552-8EBDE7B2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7C0-04DB-46F8-8610-0F3966D6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10D-8DDE-4C9B-9FFA-C0EE09B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AD4-1107-48B3-8928-535388F5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70B-833B-4D5B-8428-374B264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E1C0-3110-4E72-9901-40B938CB40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4280" y="1447920"/>
            <a:ext cx="759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arkinson’s 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 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utch Elder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pula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4380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140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572000" cy="117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457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723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00Z</dcterms:modified>
  <cp:revision>184</cp:revision>
  <dc:subject/>
  <dc:title>Slide 1</dc:title>
</cp:coreProperties>
</file>